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75C8-83EA-4550-A336-E058A3C8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539A-87E2-47BB-90E8-9FBE5504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8AE2-85D2-4FCB-9311-D29281C8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7070-55E7-40F6-870E-CC70EA78F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EB914-354A-4271-9076-F3542CD1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AE363-8715-4497-8A90-6C8D63C6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BBC42-6667-4469-8781-2DC7BB4C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CB88F-EA7A-4D23-A8CD-FEF0DA58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B7C4B-AA85-406A-83D4-95DFD1B1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9035C-B995-4AE7-9F13-281FF37F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E8BDC-A456-4ADA-9860-591CC52A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5FBB-BFE5-4C73-95B9-FFC59D9B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D6F5A-2434-4B42-8189-365FB6A4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75303-5796-4FD5-B867-79D4BA4F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91807-2CDF-4F1A-AB69-E08EB340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B99AC-BC15-47FD-A405-A02E548B9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4BE0B-63C2-47E1-9A77-4E911EFD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BA2B-57F2-46FC-9C44-C678051C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C3B5-EB39-4B1A-9F0F-D1C1A9EA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29EA-8002-4041-A0C2-BED3601C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3900-0491-4812-B3F6-4C99542E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A4D1-9AFA-49A0-B917-175B8B5E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5949-1079-48D9-92DC-B4932E79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0365-599D-458A-804F-4EF033D2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3B23-BCF8-4C87-81B8-6FF06EF720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6147-D140-4C2F-853E-57AF1198AA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Lessons 3 and 4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er of Mesopotamia/ Artisans and Crafts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umer of Mesopotami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d around Ur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y and dus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resour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 one: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w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erians were the first to u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he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ke (used to link oxen for plow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ter’s whe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rmers did not own land—worked it for wealthy ow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ax:  important crop; made linen thread which made clo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fishermen in Su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sh and bread most important f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14400" y="3429000"/>
            <a:ext cx="2381400" cy="3176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867280" y="3505320"/>
            <a:ext cx="2346480" cy="3124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50532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33920" y="4724280"/>
            <a:ext cx="1828800" cy="533520"/>
          </a:xfrm>
          <a:prstGeom prst="rightArrow">
            <a:avLst>
              <a:gd name="adj1" fmla="val 50000"/>
              <a:gd name="adj2" fmla="val 8569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ribes: people who kept written rec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ylus: writing instrument (made impressions in soft clay table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2859120" cy="3352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010280" y="2971800"/>
            <a:ext cx="1940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neiform: Sumerian wedge-shaped wr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linder Seal: how Sumerians signed their name; carvings identified owner; showed approval or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3260520" cy="3232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800600" y="838080"/>
            <a:ext cx="367992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sans: skilled craftsmen; turned raw materials into finished g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rts: goods sold to foreign tr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t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wheel and clay to make p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ed carvings and deco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rtisans and Buy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ll inlay: artisan used white shells, fit them together like a puzzle, pressed into softened tar, and covered with lapis lazu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pis Lazuli:  bright blue st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12:50:26Z</dcterms:created>
  <dc:creator>erin.hendricks</dc:creator>
  <dc:description/>
  <dc:language>en-US</dc:language>
  <cp:lastModifiedBy>erin.hendricks</cp:lastModifiedBy>
  <dcterms:modified xsi:type="dcterms:W3CDTF">2011-08-25T13:23:27Z</dcterms:modified>
  <cp:revision>3</cp:revision>
  <dc:subject/>
  <dc:title>Lessons 3 and 4</dc:title>
</cp:coreProperties>
</file>